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773-05DC-4667-95A2-F235F42C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62A-E6E2-463D-B75B-CD4E31D2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0B2-0C1D-43A2-9596-FE89DCD5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0EB-BED1-498A-A087-F4534507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69A-454E-4929-ABAD-791A6C09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388-72BA-42F6-984C-4A20FCD3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99C-7F5C-4EB3-98A6-98A7599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03C-1757-4BBD-9437-4DC985C7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879-99FA-4DF2-8428-A976C97D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191-A861-4FE6-9ECB-F03A2C2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564-D82F-4C8C-A8E4-B7DEDD56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93C-53CB-4719-B448-F307B0A1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AD40-F460-47A2-B2DC-9021FA5753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2"/>
          <p:cNvCxnSpPr>
            <a:stCxn id="50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3"/>
          <p:cNvCxnSpPr>
            <a:endCxn id="45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5"/>
          <p:cNvCxnSpPr>
            <a:endCxn id="47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7"/>
          <p:cNvCxnSpPr>
            <a:endCxn id="48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>
            <a:endCxn id="50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>
            <a:stCxn id="76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>
            <a:endCxn id="72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30"/>
          <p:cNvCxnSpPr>
            <a:endCxn id="74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7"/>
          <p:cNvCxnSpPr>
            <a:stCxn id="82" idx="4"/>
            <a:endCxn id="76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50"/>
          <p:cNvCxnSpPr>
            <a:endCxn id="83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12"/>
          <p:cNvCxnSpPr>
            <a:stCxn id="99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2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5"/>
          <p:cNvCxnSpPr>
            <a:stCxn id="99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7"/>
          <p:cNvCxnSpPr>
            <a:endCxn id="99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09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2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51"/>
          <p:cNvCxnSpPr>
            <a:stCxn id="98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6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1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2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Пользователь</cp:lastModifiedBy>
  <dcterms:modified xsi:type="dcterms:W3CDTF">2014-11-27T05:51:32Z</dcterms:modified>
  <cp:revision>19</cp:revision>
  <dc:subject/>
  <dc:title>Операторные скобки Сложные условия</dc:title>
</cp:coreProperties>
</file>